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BF9-0DE3-4BCC-92B9-3A6E5E9F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EFE-B13B-4516-A33B-3E9E479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F01-38A4-4CCA-A1B9-8E431515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094-B1F9-46F2-807A-8148645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56C-D2F2-4EBF-981F-D667A34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E0F-2412-4678-A54D-8146EA5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15F-AA19-4405-919A-851E8A00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616-4136-403D-AF9D-94FAB6D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963-08BD-4113-9045-87C4756F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AA4-8236-4E51-8926-7F62E3AA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A99-6C8F-4992-9B6D-60B2818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48A-1117-44C9-8E4E-5698AAF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c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34E3-06DB-4243-A00B-25B1A47DE7B9}" type="slidenum">
              <a:rPr b="0" lang="en-US" sz="1400" spc="-1" strike="noStrike">
                <a:solidFill>
                  <a:srgbClr val="ccff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ELLULAR TRANSPORT</a:t>
            </a:r>
            <a:endParaRPr b="0" lang="en-US" sz="4400" spc="-1" strike="noStrike">
              <a:solidFill>
                <a:srgbClr val="ccff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Comic Sans MS"/>
              </a:rPr>
              <a:t>Modern Biolo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hapter 5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A. Unaided Movemen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Diffus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45" name="6_4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6320" y="480060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rates – increase w/ increased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temperature 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001160" y="3581280"/>
            <a:ext cx="7584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diffuse until even concentration but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vement continu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16240" y="2438280"/>
            <a:ext cx="82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move from high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oncentration to low concentra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Osm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33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Isotonic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qual concentration in and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099800" y="313992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) types of solution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055880" y="1981080"/>
            <a:ext cx="7124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) cell has no control, concentratio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determined by solutes in water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996120" y="137160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) movement of water from high to low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126520" y="475452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rate in and out equa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hypo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639440" y="4221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hrive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618200" y="37638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loss of turgor pressur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3. hypertonic solut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558440" y="313992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greater than i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5680" y="205740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cells sw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78240" y="144792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turgor pressure in pla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7120" y="83808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conc. solute out lower than in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oodcells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B) Carrier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</p:txBody>
      </p:sp>
      <p:pic>
        <p:nvPicPr>
          <p:cNvPr id="65" name="pastrans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5053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8098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. active transport –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gainst gradient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requires energy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(ATP)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727560" y="3139920"/>
            <a:ext cx="609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ion channels – specific to ion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facilitated diffusion – w/ gradien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-23040" y="914400"/>
            <a:ext cx="7564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proteins used to transport larg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molecules in or out of cell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Comic Sans MS"/>
              </a:rPr>
              <a:t>C. Bulk transport</a:t>
            </a:r>
            <a:endParaRPr b="0" lang="en-US" sz="4400" spc="-1" strike="noStrike">
              <a:solidFill>
                <a:srgbClr val="cc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) substances move in and out w/o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passing through 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1804680" y="513540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phagocytosis &amp; pinocytosi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298520" y="3736800"/>
            <a:ext cx="77961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cell membrane encloses particl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nd pinches off into the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603520"/>
            <a:ext cx="594360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) type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a. endocytosis – in, 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b. exocytosis – out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222560" y="2133720"/>
            <a:ext cx="749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2. membranes fuse and break on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outside of cell to expel contents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900360" y="990720"/>
            <a:ext cx="803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1. substance in membrane moves to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ffcc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cc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ndocytosis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4:04:31Z</dcterms:created>
  <dc:creator>patti richardson</dc:creator>
  <dc:description/>
  <dc:language>en-US</dc:language>
  <cp:lastModifiedBy>patti richardson</cp:lastModifiedBy>
  <dcterms:modified xsi:type="dcterms:W3CDTF">2005-02-18T18:56:24Z</dcterms:modified>
  <cp:revision>5</cp:revision>
  <dc:subject/>
  <dc:title>CELLULAR TRANSPORT</dc:title>
</cp:coreProperties>
</file>