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8913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F62-9832-4F2F-B68C-5FA3E748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8DD-B8F3-47C6-B29D-C729B363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A3C-B625-43E8-862D-9577BB5E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A3F-9312-4BB1-8012-AD3E3B50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6B7-3D82-4DD3-949C-18EC6C09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C32-256C-4F7D-9DA1-C0EB0CF0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6F9-B60C-46BC-88DC-2E52D9D5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C0A-E4C6-4D1A-ABD7-B5F10AB6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891-38DA-41B8-BE3D-AA144502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23F7-9DF1-4ACC-9BA8-B378B5DF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788-A77E-4882-8531-3C6785D9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8B6-3D4F-493D-A751-2BC469CA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cc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cc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c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cc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c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DC52-F9E9-4F50-9038-4F7F58725856}" type="slidenum">
              <a:rPr b="0" lang="en-US" sz="1400" spc="-1" strike="noStrike">
                <a:solidFill>
                  <a:srgbClr val="ccff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CELLULAR TRANSPORT</a:t>
            </a: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cc"/>
                </a:solidFill>
                <a:uFillTx/>
                <a:latin typeface="Comic Sans MS"/>
              </a:rPr>
              <a:t>Modern Biology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hapter 5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3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A. Unaided Movement</a:t>
            </a:r>
            <a:endParaRPr b="0" lang="en-US" sz="44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9810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) Diffus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pic>
        <p:nvPicPr>
          <p:cNvPr id="45" name="6_4" descr="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2514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6320" y="4800600"/>
            <a:ext cx="65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) rates – increase w/ increased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temperature or pressur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1001160" y="3581280"/>
            <a:ext cx="7584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) diffuse until even concentration but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movement continue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516240" y="2438280"/>
            <a:ext cx="822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ccff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molecules move from high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oncentration to low concentrat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) Osmosi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37339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Isotonic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equal concentration in and out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1099800" y="3139920"/>
            <a:ext cx="39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) types of solution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1055880" y="1981080"/>
            <a:ext cx="71240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) cell has no control, concentration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determined by solutes in water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996120" y="1371600"/>
            <a:ext cx="76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) movement of water from high to low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2126520" y="4754520"/>
            <a:ext cx="46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rate in and out equa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. hypotonic solut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639440" y="4221000"/>
            <a:ext cx="278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. cells shri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1618200" y="3763800"/>
            <a:ext cx="50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loss of turgor pressur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666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3. hypertonic solut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1558440" y="3139920"/>
            <a:ext cx="66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conc. solute out greater than i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1615680" y="205740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. cells swel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1578240" y="1447920"/>
            <a:ext cx="54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turgor pressure in plant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627120" y="838080"/>
            <a:ext cx="72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conc. solute out lower than in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loodcells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B) Carrier transport</a:t>
            </a:r>
            <a:endParaRPr b="0" lang="en-US" sz="4400" spc="-1" strike="noStrike">
              <a:solidFill>
                <a:srgbClr val="ccffcc"/>
              </a:solidFill>
              <a:latin typeface="Comic Sans MS"/>
            </a:endParaRPr>
          </a:p>
        </p:txBody>
      </p:sp>
      <p:pic>
        <p:nvPicPr>
          <p:cNvPr id="65" name="pastrans" descr=""/>
          <p:cNvPicPr/>
          <p:nvPr/>
        </p:nvPicPr>
        <p:blipFill>
          <a:blip r:embed="rId1"/>
          <a:stretch/>
        </p:blipFill>
        <p:spPr>
          <a:xfrm>
            <a:off x="5638680" y="4267080"/>
            <a:ext cx="3505320" cy="259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380988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. active transport –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gainst gradient,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requires energy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(ATP)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727560" y="3139920"/>
            <a:ext cx="609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ion channels – specific to 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)type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facilitated diffusion – w/ gradient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-23040" y="914400"/>
            <a:ext cx="75646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)proteins used to transport larg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molecules in or out of cel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1430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C. Bulk transport</a:t>
            </a:r>
            <a:endParaRPr b="0" lang="en-US" sz="4400" spc="-1" strike="noStrike">
              <a:solidFill>
                <a:srgbClr val="ccff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) substances move in and out w/o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passing through cell membran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1804680" y="5135400"/>
            <a:ext cx="57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. phagocytosis &amp; pinocytosi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1298520" y="3736800"/>
            <a:ext cx="779616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. cell membrane encloses particle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nd pinches off into the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603520"/>
            <a:ext cx="594360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) type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endocytosis – in,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exocytosis – out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1222560" y="2133720"/>
            <a:ext cx="749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. membranes fuse and break on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outside of cell to expel content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900360" y="990720"/>
            <a:ext cx="803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. substance in membrane moves to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ell membran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endocytosis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4:04:31Z</dcterms:created>
  <dc:creator>patti richardson</dc:creator>
  <dc:description/>
  <dc:language>en-US</dc:language>
  <cp:lastModifiedBy>patti richardson</cp:lastModifiedBy>
  <dcterms:modified xsi:type="dcterms:W3CDTF">2005-02-18T18:56:24Z</dcterms:modified>
  <cp:revision>5</cp:revision>
  <dc:subject/>
  <dc:title>CELLULAR TRANSPORT</dc:title>
</cp:coreProperties>
</file>