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3C4-1505-4D39-BB91-EBD0ACE6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0FF-9D20-428B-BCBB-B19F15CA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2CD-40CB-46DE-9715-5E4C37CB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D8F-3326-4E40-AA57-CD5B2CF8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779-0320-4E5C-8AE5-0A288414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D07-3785-4734-ADB2-35DA3B0D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156-1D0C-48CC-AA53-12D9327E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238-7F74-4F5D-A700-C2CECDE7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E61-2C07-4EB8-B31F-63ED1614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E5D-B64A-4FA4-AA54-E8B2B760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BB8-3172-4188-B731-DE0F7AB3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706-D130-445B-939F-DF04B9BD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1449-D4E1-4CAE-8418-420BD18A723F}" type="slidenum"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ELLULAR TRANSPORT</a:t>
            </a: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Comic Sans MS"/>
              </a:rPr>
              <a:t>Modern Biology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hapter 5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A. Unaided Movemen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 Diffus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pic>
        <p:nvPicPr>
          <p:cNvPr id="45" name="6_4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25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6320" y="4800600"/>
            <a:ext cx="65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) rates – increase w/ increased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temperature or pressur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1001160" y="3581280"/>
            <a:ext cx="7584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) diffuse until even concentration but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vement continu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516240" y="2438280"/>
            <a:ext cx="822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ccff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lecules move from high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oncentration to low concentra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 Osmosi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37339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Isotonic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equal concentration in and ou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099800" y="3139920"/>
            <a:ext cx="39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) types of solution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055880" y="1981080"/>
            <a:ext cx="71240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) cell has no control, concentration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determined by solutes in water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996120" y="1371600"/>
            <a:ext cx="76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) movement of water from high to low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126520" y="4754520"/>
            <a:ext cx="46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rate in and out equa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hypotonic solu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639440" y="4221000"/>
            <a:ext cx="27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cells shri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1618200" y="3763800"/>
            <a:ext cx="50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loss of turgor pressur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666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3. hypertonic solu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1558440" y="3139920"/>
            <a:ext cx="66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conc. solute out greater than i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615680" y="205740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cells swel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578240" y="1447920"/>
            <a:ext cx="54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turgor pressure in plant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627120" y="838080"/>
            <a:ext cx="72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conc. solute out lower than in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loodcells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B) Carrier transpor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</p:txBody>
      </p:sp>
      <p:pic>
        <p:nvPicPr>
          <p:cNvPr id="65" name="pastrans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350532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380988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active transport –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gainst gradient,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requires energy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(ATP)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727560" y="3139920"/>
            <a:ext cx="609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ion channels – specific to 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typ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facilitated diffusion – w/ gradien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-23040" y="914400"/>
            <a:ext cx="75646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proteins used to transport larg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lecules in or out of cel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. Bulk transpor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 substances move in and out w/o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passing through cell membran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1804680" y="5135400"/>
            <a:ext cx="57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phagocytosis &amp; pinocytosi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298520" y="3736800"/>
            <a:ext cx="779616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. cell membrane encloses particle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nd pinches off into the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603520"/>
            <a:ext cx="594360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 typ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endocytosis – in,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exocytosis – ou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1222560" y="2133720"/>
            <a:ext cx="749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membranes fuse and break on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outside of cell to expel content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900360" y="990720"/>
            <a:ext cx="803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. substance in membrane moves to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ell membran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endocytosis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4:04:31Z</dcterms:created>
  <dc:creator>patti richardson</dc:creator>
  <dc:description/>
  <dc:language>en-US</dc:language>
  <cp:lastModifiedBy>patti richardson</cp:lastModifiedBy>
  <dcterms:modified xsi:type="dcterms:W3CDTF">2005-02-18T18:56:24Z</dcterms:modified>
  <cp:revision>5</cp:revision>
  <dc:subject/>
  <dc:title>CELLULAR TRANSPORT</dc:title>
</cp:coreProperties>
</file>